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63DC-4BE7-4C00-885D-A447F9E2E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293E-E7D9-4D58-A1CF-E6CFD95E3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D480-8B15-4868-ACC7-C2055F639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B18F-6BBE-4D15-8DD1-37A3554EE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A027BB-3984-4F26-8C16-F343D40D1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DBB7ED-8A00-4213-B604-CC9BE00E8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3354A8-6454-40E9-AD58-C6889D90D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6D7BBD-9F8A-452F-BF8F-F69D6688D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C69DD5-6444-4E1F-9BE5-AF4B01D82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33C698-43E0-44D1-9C40-7C74A9807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FA59A4-DE29-4970-BB78-B8AB0D73A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EC44-4A90-4C4D-B337-4619076CF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BFB778-452F-401C-BB63-86F23FC58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6E56EF-0169-4EB4-861B-7BCED080A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586A83-18A7-45CE-AECA-AC1065F36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282030-3B01-460F-B9BE-8B37D242F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DA1AC6-061D-49F0-8FD5-A507CC5A7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D16B-B647-4F75-B5DB-34F618CEA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51CA-BDAC-4D35-A901-433E52EB1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E692-6E83-4D0A-ACB9-4BE0983EF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2C7F-60B7-4EE9-9CE6-AED7D7CF0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E770-5CF5-4B40-BBB5-13F175A9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A400-4B16-4016-BD7A-E82420693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C697-35EA-4AF7-96D2-E92634E14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FF716-9D17-4516-9E51-8848E57D40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86147-553D-45FA-86A0-8DD5B315D93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MEDICINSKI FAKULTET KRAGUJEVAC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4360" y="3428640"/>
            <a:ext cx="79912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ff"/>
                </a:solidFill>
                <a:latin typeface="Tahoma"/>
              </a:rPr>
              <a:t>Rehabilitacija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hemiplegi</a:t>
            </a:r>
            <a:r>
              <a:rPr b="1" lang="sr-Latn-CS" sz="44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Prognoza hemiplegij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1/4 hemiplegičara umire prvih 24 sata od nastanka insul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1/3 do 1/4  ostaju invalid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Mogućnost RCV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Veći broj bolesnika postaje nezavisno u ADŽ, a manji se vraća na pos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Broj bolesnika je u porastu, kapaciteti nedovoljn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ff"/>
                </a:solidFill>
                <a:latin typeface="Tahoma"/>
              </a:rPr>
              <a:t>Prognostički faktori oporavka hemiplegičar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Životno dob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Vrsta i težina pratećih oboljen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Stanje svest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Trajanje i dubina ko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Vreme pojave spasticite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Sinkinezij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Kontrola sfinkte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Psihički stat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Motivaci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Komplikacije kod hemiplegičar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Dekubit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Plućne komplikacije (pneumonija,plućna embolij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Urinarna infekc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Kardiovaskularne komplikaci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Gastrointestinalne komplikaci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Rame-šaka S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99640" y="764640"/>
            <a:ext cx="7000920" cy="98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ahoma"/>
              </a:rPr>
              <a:t>Dijagnostika CVI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58920" y="1916280"/>
            <a:ext cx="73468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1360" indent="-44136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ffffff"/>
                </a:solidFill>
                <a:latin typeface="Tahoma"/>
              </a:rPr>
              <a:t>anamneza i klinički pregled</a:t>
            </a:r>
            <a:r>
              <a:rPr b="0" lang="sr-Latn-CS" sz="22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41360" indent="-44136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ffffff"/>
                </a:solidFill>
                <a:latin typeface="Tahoma"/>
              </a:rPr>
              <a:t>kardiološko ispitivanje - </a:t>
            </a:r>
            <a:r>
              <a:rPr b="0" lang="sr-Latn-CS" sz="2200" spc="-1" strike="noStrike">
                <a:solidFill>
                  <a:srgbClr val="ffffff"/>
                </a:solidFill>
                <a:latin typeface="Tahoma"/>
              </a:rPr>
              <a:t>merenje TA, EKG i ehokardiografija, 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41360" indent="-44136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ffffff"/>
                </a:solidFill>
                <a:latin typeface="Tahoma"/>
              </a:rPr>
              <a:t>pregled očnog dna,</a:t>
            </a:r>
            <a:r>
              <a:rPr b="0" lang="sr-Latn-CS" sz="2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41360" indent="-44136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ffffff"/>
                </a:solidFill>
                <a:latin typeface="Tahoma"/>
              </a:rPr>
              <a:t>pregled likvora,</a:t>
            </a:r>
            <a:r>
              <a:rPr b="0" lang="sr-Latn-CS" sz="2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41360" indent="-44136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ffffff"/>
                </a:solidFill>
                <a:latin typeface="Tahoma"/>
              </a:rPr>
              <a:t>UZ dijagnostika,</a:t>
            </a:r>
            <a:r>
              <a:rPr b="0" lang="sr-Latn-CS" sz="2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41360" indent="-44136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ffffff"/>
                </a:solidFill>
                <a:latin typeface="Tahoma"/>
              </a:rPr>
              <a:t>transkranijalna Doppler sonografija,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41360" indent="-44136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ffffff"/>
                </a:solidFill>
                <a:latin typeface="Tahoma"/>
              </a:rPr>
              <a:t>CT i NMR</a:t>
            </a:r>
            <a:r>
              <a:rPr b="0" lang="sr-Latn-CS" sz="2200" spc="-1" strike="noStrike">
                <a:solidFill>
                  <a:srgbClr val="ffffff"/>
                </a:solidFill>
                <a:latin typeface="Tahoma"/>
              </a:rPr>
              <a:t> (CVI i veće abnormalnosti krvnih sudova,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41360" indent="-44136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ffffff"/>
                </a:solidFill>
                <a:latin typeface="Tahoma"/>
              </a:rPr>
              <a:t>laboratorijski pregled - </a:t>
            </a:r>
            <a:r>
              <a:rPr b="0" lang="sr-Latn-CS" sz="2200" spc="-1" strike="noStrike">
                <a:solidFill>
                  <a:srgbClr val="ffffff"/>
                </a:solidFill>
                <a:latin typeface="Tahoma"/>
              </a:rPr>
              <a:t> ispitivanje lipida u krvi (odnos LDL</a:t>
            </a:r>
            <a:r>
              <a:rPr b="0" lang="sr-Latn-C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200" spc="-1" strike="noStrike">
                <a:solidFill>
                  <a:srgbClr val="ffffff"/>
                </a:solidFill>
                <a:latin typeface="Tahoma"/>
              </a:rPr>
              <a:t>i HDL, holesterola i triglicerida) i glikemije.</a:t>
            </a:r>
            <a:r>
              <a:rPr b="0" lang="sr-Latn-CS" sz="2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Terapija hemiplegičar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Nega bolesni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Medikamentna - citoprotektiv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- fibrinolitič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- antitrombotička-Hepar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- antiedematozna-Manit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Fizikalna terap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Fizikalna terapija hemiplegičar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Elektroterapija-SG, ES, TENS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Kineziterap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Magnetoterap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Terapija rad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Briga o psihičkom stanj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Termoterap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Ortotisan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Faze hemiplegij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5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3500" spc="-1" strike="noStrike">
                <a:solidFill>
                  <a:srgbClr val="ffffff"/>
                </a:solidFill>
                <a:latin typeface="Tahoma"/>
              </a:rPr>
              <a:t>Faza mlitave hemiplegije  - faza mirovanja 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3500" spc="-1" strike="noStrike">
                <a:solidFill>
                  <a:srgbClr val="ffffff"/>
                </a:solidFill>
                <a:latin typeface="Tahoma"/>
              </a:rPr>
              <a:t>Faza spastične hemiplegije – faza mobilizacije 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3500" spc="-1" strike="noStrike">
                <a:solidFill>
                  <a:srgbClr val="ffffff"/>
                </a:solidFill>
                <a:latin typeface="Tahoma"/>
              </a:rPr>
              <a:t>Faza relativnog oporavka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68000" y="1844640"/>
            <a:ext cx="83516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-  nastaje neposredno posle CVI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182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-  traje od nekoliko dana do nekoliko nedelj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182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182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Karakteriše se 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630360" indent="-2685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poremećajem stanja svesti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630360" indent="-2685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moguća devijacija glave i očiju ka oštećenoj strani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630360" indent="-2685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afazijom, koja može biti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988920" indent="-1792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80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ffffff"/>
                </a:solidFill>
                <a:latin typeface="Tahoma"/>
              </a:rPr>
              <a:t>motorna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 ili ekspresivna – bolesnik nije u stanju da izgovara reči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988920" indent="-1792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80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senzorna ili perceptivna –bolesnik čuje tonove ali ih ne razum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630360" indent="-2685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ugao usana je niži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630360" indent="-2685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gutanje je onemogućeno ili otežano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630360" indent="-2685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tonus oduzetih ekstremiteta je niži (mlitava oduzetost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1763640" y="90792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Faza mlitave hemiplegi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00280" y="813960"/>
            <a:ext cx="7146720" cy="5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 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Faza spastične hemiplegi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8271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2746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89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Tahoma"/>
              </a:rPr>
              <a:t>povišen tonus,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2746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89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Tahoma"/>
              </a:rPr>
              <a:t>hiperrefleksij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sr-Latn-CS" sz="22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2746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89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Tahoma"/>
              </a:rPr>
              <a:t>pojav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sr-Latn-CS" sz="2200" spc="-1" strike="noStrike">
                <a:solidFill>
                  <a:srgbClr val="ffffff"/>
                </a:solidFill>
                <a:latin typeface="Tahoma"/>
              </a:rPr>
              <a:t> patoloških refleksa,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2746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89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Tahoma"/>
              </a:rPr>
              <a:t>fleksionim sinergizmom na gornjem ekstremitetu,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2746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89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Tahoma"/>
              </a:rPr>
              <a:t>ekstenzionim sinergizmom  na donjem ekstremitetu,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2746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89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Tahoma"/>
              </a:rPr>
              <a:t>poremećajem površnog i dubokog senzibiliteta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III     Faza relativnog oporav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354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110000"/>
              <a:buFont typeface="Wingdings" charset="2"/>
              <a:buChar char="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Tahoma"/>
              </a:rPr>
              <a:t>Prisutni su motorički obrasci masivnih motoričkih aktivnosti,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533520" indent="-354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110000"/>
              <a:buFont typeface="Wingdings" charset="2"/>
              <a:buChar char="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Tahoma"/>
              </a:rPr>
              <a:t>Izolovani pokreti se još uvek ne mogu izvesti. 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habilitacija 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hemiplegiča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astoji se o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ane hospitalne rehabilitacije u apoplekticnoj jedinici,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  -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acionarne rehabilitacije  u specijalizovanim ustanov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      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bulantne rehabilitacij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ilj terapijskih mera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grani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je – redukcija o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š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ć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brzanje razvoja postojecih funkci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mo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ć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i obuka u strategiji oporavk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44480"/>
            <a:ext cx="7262640" cy="8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ahoma"/>
              </a:rPr>
              <a:t>Uv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692360" y="1844640"/>
            <a:ext cx="67672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Cerebrovaskularne bolesti su oštećenja mozga prouzrokovana patološkim procesima na krvnim sudovima i poremećajima cirkulacije mozg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Kineziterapijski tretman ima odlučujuću ulogu u osposobljavanju pacijenata nakon CVI, i još uvek se ne može zameniti ni jednim drugim sredstvom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ilj rehabilitaci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poravak senzomotori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ih funkcij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premnost za aktivinosti dnevnog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ž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vo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p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š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 mo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i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aptacija stana –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uklanjanje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rijera za kretanje i ugradnja pomo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ć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ih sredstava koja omogu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ć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vaju bolji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ž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vot pacijent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avetovanje uku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ć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a o na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u zbrinjavanja i pomo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ć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pacijent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ocijalna i profesionalna reintegraci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Evaluacija posturalnog tonus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14200" indent="-14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365040"/>
                <a:tab algn="l" pos="44136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menjanjem položaja glave menja se tonus na rukama i noga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44200" indent="-2163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365040"/>
                <a:tab algn="l" pos="441360"/>
                <a:tab algn="l" pos="62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Simetrični refleks vrata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–  prilikom fleksije glave i vrata  doći će do povećanja tonusa fleksora u gornjim ekstremitetima i tonusa ekstenzora u donjim ekstremitetim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44200" indent="-2163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365040"/>
                <a:tab algn="l" pos="441360"/>
                <a:tab algn="l" pos="62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Asimetrični refleks vrata 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–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ukoliko se glava okrene na jednu stranu, tonus ekstenzora će se povećati na ipsilateralnim ekstremitetima, dok se na suprotnoj strani tonus ekstenzora smanjuje a povećava se tonus fleksor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14200" indent="-14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365040"/>
                <a:tab algn="l" pos="44136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Rehabilitacija hemiplegičara u prvom 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gram u krevetu u le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ž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ć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j pozicij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gulisanje tonusa kroz fizi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u aktivnos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zicioniranje po Bobath-u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zicioniranje ,,Bridging’’ polo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ž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ja (mos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zalna stimulaci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rijentacija u prostor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Š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ola opa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ž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ja bolesne stra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Pozicioniranje u st mlitavost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78560" indent="-1785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sprečiti razvoj spasticiteta, kontraktura i bolnih stanja</a:t>
            </a:r>
            <a:br>
              <a:rPr sz="2800"/>
            </a:b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78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Položaj supinacij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78560" indent="-1785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Glava se postavlja u lateralnu fleksiju prema zdravoj strani tela. Ruka je na jastuku, u abdukciji, spoljnoj rotaciji i elevaciji u ramenu i ekstendirana je pored tela. Noga treba da ima oslonac ispod kolena i laku fleksiju u kolenu. Stopalo se postavlja u laku dorzalnu fleksiju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78560" indent="-1785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Pasivne vežbe, a kasnije potpomognu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Pozicioniranje leve hemiplegij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7" descr=""/>
          <p:cNvPicPr/>
          <p:nvPr/>
        </p:nvPicPr>
        <p:blipFill>
          <a:blip r:embed="rId1"/>
          <a:stretch/>
        </p:blipFill>
        <p:spPr>
          <a:xfrm>
            <a:off x="539640" y="2060640"/>
            <a:ext cx="4038840" cy="3155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"/>
          <p:cNvPicPr/>
          <p:nvPr/>
        </p:nvPicPr>
        <p:blipFill>
          <a:blip r:embed="rId2"/>
          <a:stretch/>
        </p:blipFill>
        <p:spPr>
          <a:xfrm>
            <a:off x="4648320" y="2060640"/>
            <a:ext cx="4038480" cy="3128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Samoaktiviranje i pasivne vežb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8" descr="HWScan00236444"/>
          <p:cNvPicPr/>
          <p:nvPr/>
        </p:nvPicPr>
        <p:blipFill>
          <a:blip r:embed="rId1"/>
          <a:stretch/>
        </p:blipFill>
        <p:spPr>
          <a:xfrm>
            <a:off x="324000" y="2492280"/>
            <a:ext cx="4254480" cy="22924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HWScan00233"/>
          <p:cNvPicPr/>
          <p:nvPr/>
        </p:nvPicPr>
        <p:blipFill>
          <a:blip r:embed="rId2"/>
          <a:stretch/>
        </p:blipFill>
        <p:spPr>
          <a:xfrm>
            <a:off x="5148360" y="1989000"/>
            <a:ext cx="3009960" cy="20401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HWScan002347"/>
          <p:cNvPicPr/>
          <p:nvPr/>
        </p:nvPicPr>
        <p:blipFill>
          <a:blip r:embed="rId3"/>
          <a:stretch/>
        </p:blipFill>
        <p:spPr>
          <a:xfrm>
            <a:off x="5148360" y="4581360"/>
            <a:ext cx="3024000" cy="1981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Rehabilitacija hemiplegičara u drugo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ineziterapija u krevetu i sedenje uz ograni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e aktivnost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elazni pokreti u cilju prelaza iz le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ž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ć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g u sede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ć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polo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ž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j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lans u sede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ć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m polo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ž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j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ans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r u pokretna kol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cioniranje kao u I stadijum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Uvežbavanje balansa u sedeće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6" descr="scan0001"/>
          <p:cNvPicPr/>
          <p:nvPr/>
        </p:nvPicPr>
        <p:blipFill>
          <a:blip r:embed="rId1"/>
          <a:stretch/>
        </p:blipFill>
        <p:spPr>
          <a:xfrm>
            <a:off x="826920" y="1989000"/>
            <a:ext cx="7561440" cy="4248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Balans u sedeće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906800" cy="489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acijent se podiže u sedeći položaj na ivici kreveta, tako što se zdravom rukom drži za uzglavlje kreveta. Zdrava ruka se postavlja kao oslonac, na celu šaku. Zatim pacijent menja položaj ka zdravom i oštećen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Uvežbavanje balansa u sedećem položaj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sr-Latn-CS" sz="2400" spc="-1" strike="noStrike">
                <a:solidFill>
                  <a:srgbClr val="ffffff"/>
                </a:solidFill>
                <a:latin typeface="Tahoma"/>
              </a:rPr>
              <a:t>Strümpel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 fenomen – kroz refleksnu aktivnost, dobija se odgovor dorzalne fleksije stopala, što omogućuje pri hodu bolju sigurnost i koordinaciju</a:t>
            </a:r>
            <a:r>
              <a:rPr b="0" lang="sr-Latn-CS" sz="1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8" descr="scan0026"/>
          <p:cNvPicPr/>
          <p:nvPr/>
        </p:nvPicPr>
        <p:blipFill>
          <a:blip r:embed="rId1"/>
          <a:stretch/>
        </p:blipFill>
        <p:spPr>
          <a:xfrm>
            <a:off x="5745240" y="2774880"/>
            <a:ext cx="1842840" cy="23734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" descr="scan0031"/>
          <p:cNvPicPr/>
          <p:nvPr/>
        </p:nvPicPr>
        <p:blipFill>
          <a:blip r:embed="rId2"/>
          <a:stretch/>
        </p:blipFill>
        <p:spPr>
          <a:xfrm>
            <a:off x="7658280" y="4038480"/>
            <a:ext cx="1485720" cy="1981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h hemiplegi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a u 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trećem stadijum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DENJ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Funkcionalna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š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ola plegi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g rame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Savladavanje samostalnog transvera iz kreveta u kol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Pozicioniranje u sede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ć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m polo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ž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ju (balan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Pozicioniranje u krevetu kroz regulaciju tonu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Pokreti prelaza iz sede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ć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g u stoje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ć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stav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60240" y="813960"/>
            <a:ext cx="501948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ahoma"/>
              </a:rPr>
              <a:t>Definicija hemiplegi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71280" y="1844280"/>
            <a:ext cx="7561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-274680">
              <a:lnSpc>
                <a:spcPct val="80000"/>
              </a:lnSpc>
              <a:spcBef>
                <a:spcPts val="774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1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sr-Latn-CS" sz="3100" spc="-1" strike="noStrike">
                <a:solidFill>
                  <a:srgbClr val="ffffff"/>
                </a:solidFill>
                <a:latin typeface="Tahoma"/>
              </a:rPr>
              <a:t>Hemiplegija </a:t>
            </a:r>
            <a:r>
              <a:rPr b="0" lang="sr-Latn-CS" sz="31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sr-Latn-CS" sz="31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3100" spc="-1" strike="noStrike">
                <a:solidFill>
                  <a:srgbClr val="ffffff"/>
                </a:solidFill>
                <a:latin typeface="Tahoma"/>
              </a:rPr>
              <a:t>gubitak voljnih pokreta (oduzetost jedne polovine tela) 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274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3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5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Hemipareza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- slabost voljnih pokre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0964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274680" indent="-274680">
              <a:lnSpc>
                <a:spcPct val="80000"/>
              </a:lnSpc>
              <a:spcBef>
                <a:spcPts val="774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1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sr-Latn-CS" sz="3100" spc="-1" strike="noStrike">
                <a:solidFill>
                  <a:srgbClr val="ffffff"/>
                </a:solidFill>
                <a:latin typeface="Tahoma"/>
              </a:rPr>
              <a:t>Etiološki uzrok se nalazi u motornoj zoni suprotne hemisfere mozga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2746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274680" indent="-274680">
              <a:lnSpc>
                <a:spcPct val="80000"/>
              </a:lnSpc>
              <a:spcBef>
                <a:spcPts val="774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1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sr-Latn-CS" sz="3100" spc="-1" strike="noStrike">
                <a:solidFill>
                  <a:srgbClr val="ffffff"/>
                </a:solidFill>
                <a:latin typeface="Tahoma"/>
              </a:rPr>
              <a:t>SY hemiplegije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Treći stadij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AJANJ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trol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kole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ansfer ravnote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ž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(ortostatski fenomeni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ebacivanje te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ž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sta naizmeni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drava–bolesna nog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Š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ola posturalnih i koordinacionih reakci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Četvrt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t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adijum osposobljavanja hemiplegiča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ajanje i ho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stepeno pove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ć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je te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ž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e ve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ž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i u uspravnom stav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e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ž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 ho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ć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je t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pa ve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ž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i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njanje uz stepenice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, silazak niz stepeni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kola opa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ž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ja – ve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ž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 za kinestezij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vakodnevni trening u okviru AD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U rad se uključuje i somatoped, logoped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Hod hemiplegičara uz pomoć t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Picture 4" descr="222222222"/>
          <p:cNvPicPr/>
          <p:nvPr/>
        </p:nvPicPr>
        <p:blipFill>
          <a:blip r:embed="rId1"/>
          <a:stretch/>
        </p:blipFill>
        <p:spPr>
          <a:xfrm>
            <a:off x="3033720" y="1905120"/>
            <a:ext cx="3075120" cy="4114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cena motori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ih sposobnosti    hemiplegi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cena motori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ih sposobnosti hemiplegi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a predstavlja zna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jan element u evaluaciji motori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e spremnost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tori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i testovi su zna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jni u pra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ć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ju rezultata terapiskog programa i korekciji rehabilitacionog plan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 savremenoj literaturi postoji niz testova koji evaluiraju motori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u sposobnos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ahtevi koji se tra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ž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 od testova 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za procenu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osobnosti hemiplegi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 je jednostavan i upotrebljiv u klinickoj praks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 su klinicki testovi hoda validn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 test obuhvata svakodnevne sposobnosti pacijen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 se lako moze interpretirat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stovi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za procenu hemiplegičar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nkcionalni test kretanja (FA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Functional indepedence measurement (FIM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European strocke sca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seto minutni test hoda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0-meter Gehtest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Š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sto ili dvanestominutni test hodan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me up &amp; go test (TUG tes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ep t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tor assessment sca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Rakin skal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457200" y="547560"/>
            <a:ext cx="869004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C t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61" name="Group 3"/>
          <p:cNvGrpSpPr/>
          <p:nvPr/>
        </p:nvGrpSpPr>
        <p:grpSpPr>
          <a:xfrm>
            <a:off x="762120" y="1523880"/>
            <a:ext cx="7086240" cy="4734000"/>
            <a:chOff x="762120" y="1523880"/>
            <a:chExt cx="7086240" cy="4734000"/>
          </a:xfrm>
        </p:grpSpPr>
        <p:grpSp>
          <p:nvGrpSpPr>
            <p:cNvPr id="162" name="Group 4"/>
            <p:cNvGrpSpPr/>
            <p:nvPr/>
          </p:nvGrpSpPr>
          <p:grpSpPr>
            <a:xfrm>
              <a:off x="767880" y="1528560"/>
              <a:ext cx="7072560" cy="4724640"/>
              <a:chOff x="767880" y="1528560"/>
              <a:chExt cx="7072560" cy="4724640"/>
            </a:xfrm>
          </p:grpSpPr>
          <p:grpSp>
            <p:nvGrpSpPr>
              <p:cNvPr id="163" name="Group 5"/>
              <p:cNvGrpSpPr/>
              <p:nvPr/>
            </p:nvGrpSpPr>
            <p:grpSpPr>
              <a:xfrm>
                <a:off x="767880" y="1528560"/>
                <a:ext cx="3810240" cy="762120"/>
                <a:chOff x="767880" y="1528560"/>
                <a:chExt cx="3810240" cy="762120"/>
              </a:xfrm>
            </p:grpSpPr>
            <p:sp>
              <p:nvSpPr>
                <p:cNvPr id="164" name="Rectangle 6"/>
                <p:cNvSpPr/>
                <p:nvPr/>
              </p:nvSpPr>
              <p:spPr>
                <a:xfrm>
                  <a:off x="856080" y="1528560"/>
                  <a:ext cx="363348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Pacijent ne može da ide ili zahteva pomoć dve osobe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5" name="Rectangle 7"/>
                <p:cNvSpPr/>
                <p:nvPr/>
              </p:nvSpPr>
              <p:spPr>
                <a:xfrm>
                  <a:off x="767880" y="1528560"/>
                  <a:ext cx="381024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6" name="Group 8"/>
              <p:cNvGrpSpPr/>
              <p:nvPr/>
            </p:nvGrpSpPr>
            <p:grpSpPr>
              <a:xfrm>
                <a:off x="4578480" y="1528560"/>
                <a:ext cx="3261960" cy="762120"/>
                <a:chOff x="4578480" y="1528560"/>
                <a:chExt cx="3261960" cy="762120"/>
              </a:xfrm>
            </p:grpSpPr>
            <p:sp>
              <p:nvSpPr>
                <p:cNvPr id="167" name="Rectangle 9"/>
                <p:cNvSpPr/>
                <p:nvPr/>
              </p:nvSpPr>
              <p:spPr>
                <a:xfrm>
                  <a:off x="4666320" y="1528560"/>
                  <a:ext cx="308628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8" name="Rectangle 10"/>
                <p:cNvSpPr/>
                <p:nvPr/>
              </p:nvSpPr>
              <p:spPr>
                <a:xfrm>
                  <a:off x="4578480" y="1528560"/>
                  <a:ext cx="32619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9" name="Group 11"/>
              <p:cNvGrpSpPr/>
              <p:nvPr/>
            </p:nvGrpSpPr>
            <p:grpSpPr>
              <a:xfrm>
                <a:off x="767880" y="2290680"/>
                <a:ext cx="3810240" cy="762120"/>
                <a:chOff x="767880" y="2290680"/>
                <a:chExt cx="3810240" cy="762120"/>
              </a:xfrm>
            </p:grpSpPr>
            <p:sp>
              <p:nvSpPr>
                <p:cNvPr id="170" name="Rectangle 12"/>
                <p:cNvSpPr/>
                <p:nvPr/>
              </p:nvSpPr>
              <p:spPr>
                <a:xfrm>
                  <a:off x="856080" y="2290680"/>
                  <a:ext cx="363348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Pacijent zahteva pomoć jedne osobe u cilju održavanja ravnoteže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71" name="Rectangle 13"/>
                <p:cNvSpPr/>
                <p:nvPr/>
              </p:nvSpPr>
              <p:spPr>
                <a:xfrm>
                  <a:off x="767880" y="2290680"/>
                  <a:ext cx="381024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72" name="Group 14"/>
              <p:cNvGrpSpPr/>
              <p:nvPr/>
            </p:nvGrpSpPr>
            <p:grpSpPr>
              <a:xfrm>
                <a:off x="4578480" y="2290680"/>
                <a:ext cx="3261960" cy="762120"/>
                <a:chOff x="4578480" y="2290680"/>
                <a:chExt cx="3261960" cy="762120"/>
              </a:xfrm>
            </p:grpSpPr>
            <p:sp>
              <p:nvSpPr>
                <p:cNvPr id="173" name="Rectangle 15"/>
                <p:cNvSpPr/>
                <p:nvPr/>
              </p:nvSpPr>
              <p:spPr>
                <a:xfrm>
                  <a:off x="4666320" y="2290680"/>
                  <a:ext cx="308628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74" name="Rectangle 16"/>
                <p:cNvSpPr/>
                <p:nvPr/>
              </p:nvSpPr>
              <p:spPr>
                <a:xfrm>
                  <a:off x="4578480" y="2290680"/>
                  <a:ext cx="32619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75" name="Group 17"/>
              <p:cNvGrpSpPr/>
              <p:nvPr/>
            </p:nvGrpSpPr>
            <p:grpSpPr>
              <a:xfrm>
                <a:off x="767880" y="3052800"/>
                <a:ext cx="3810240" cy="914400"/>
                <a:chOff x="767880" y="3052800"/>
                <a:chExt cx="3810240" cy="914400"/>
              </a:xfrm>
            </p:grpSpPr>
            <p:sp>
              <p:nvSpPr>
                <p:cNvPr id="176" name="Rectangle 18"/>
                <p:cNvSpPr/>
                <p:nvPr/>
              </p:nvSpPr>
              <p:spPr>
                <a:xfrm>
                  <a:off x="856080" y="3052800"/>
                  <a:ext cx="3633480" cy="91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Pacijent zahteva intermedijarnu pomoć jedne osobe kod hoda,</a:t>
                  </a:r>
                  <a:r>
                    <a:rPr b="1" lang="en-US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sigurnosti ravoteže, i koordinacije hoda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77" name="Rectangle 19"/>
                <p:cNvSpPr/>
                <p:nvPr/>
              </p:nvSpPr>
              <p:spPr>
                <a:xfrm>
                  <a:off x="767880" y="3052800"/>
                  <a:ext cx="381024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78" name="Group 20"/>
              <p:cNvGrpSpPr/>
              <p:nvPr/>
            </p:nvGrpSpPr>
            <p:grpSpPr>
              <a:xfrm>
                <a:off x="4578480" y="3052800"/>
                <a:ext cx="3261960" cy="914400"/>
                <a:chOff x="4578480" y="3052800"/>
                <a:chExt cx="3261960" cy="914400"/>
              </a:xfrm>
            </p:grpSpPr>
            <p:sp>
              <p:nvSpPr>
                <p:cNvPr id="179" name="Rectangle 21"/>
                <p:cNvSpPr/>
                <p:nvPr/>
              </p:nvSpPr>
              <p:spPr>
                <a:xfrm>
                  <a:off x="4666320" y="3052800"/>
                  <a:ext cx="3086280" cy="91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80" name="Rectangle 22"/>
                <p:cNvSpPr/>
                <p:nvPr/>
              </p:nvSpPr>
              <p:spPr>
                <a:xfrm>
                  <a:off x="4578480" y="3052800"/>
                  <a:ext cx="32619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81" name="Group 23"/>
              <p:cNvGrpSpPr/>
              <p:nvPr/>
            </p:nvGrpSpPr>
            <p:grpSpPr>
              <a:xfrm>
                <a:off x="767880" y="3967200"/>
                <a:ext cx="3810240" cy="761760"/>
                <a:chOff x="767880" y="3967200"/>
                <a:chExt cx="3810240" cy="761760"/>
              </a:xfrm>
            </p:grpSpPr>
            <p:sp>
              <p:nvSpPr>
                <p:cNvPr id="182" name="Rectangle 24"/>
                <p:cNvSpPr/>
                <p:nvPr/>
              </p:nvSpPr>
              <p:spPr>
                <a:xfrm>
                  <a:off x="856080" y="3967200"/>
                  <a:ext cx="3633480" cy="76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Pacijent iziskuje potrebu verbalne potpore ili praćenja od strane jeddne osobe (psihička potpora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83" name="Rectangle 25"/>
                <p:cNvSpPr/>
                <p:nvPr/>
              </p:nvSpPr>
              <p:spPr>
                <a:xfrm>
                  <a:off x="767880" y="3967200"/>
                  <a:ext cx="381024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84" name="Group 26"/>
              <p:cNvGrpSpPr/>
              <p:nvPr/>
            </p:nvGrpSpPr>
            <p:grpSpPr>
              <a:xfrm>
                <a:off x="4578480" y="3967200"/>
                <a:ext cx="3261960" cy="761760"/>
                <a:chOff x="4578480" y="3967200"/>
                <a:chExt cx="3261960" cy="761760"/>
              </a:xfrm>
            </p:grpSpPr>
            <p:sp>
              <p:nvSpPr>
                <p:cNvPr id="185" name="Rectangle 27"/>
                <p:cNvSpPr/>
                <p:nvPr/>
              </p:nvSpPr>
              <p:spPr>
                <a:xfrm>
                  <a:off x="4666320" y="3967200"/>
                  <a:ext cx="3086280" cy="76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86" name="Rectangle 28"/>
                <p:cNvSpPr/>
                <p:nvPr/>
              </p:nvSpPr>
              <p:spPr>
                <a:xfrm>
                  <a:off x="4578480" y="3967200"/>
                  <a:ext cx="32619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87" name="Group 29"/>
              <p:cNvGrpSpPr/>
              <p:nvPr/>
            </p:nvGrpSpPr>
            <p:grpSpPr>
              <a:xfrm>
                <a:off x="767880" y="4728960"/>
                <a:ext cx="3810240" cy="914400"/>
                <a:chOff x="767880" y="4728960"/>
                <a:chExt cx="3810240" cy="914400"/>
              </a:xfrm>
            </p:grpSpPr>
            <p:sp>
              <p:nvSpPr>
                <p:cNvPr id="188" name="Rectangle 30"/>
                <p:cNvSpPr/>
                <p:nvPr/>
              </p:nvSpPr>
              <p:spPr>
                <a:xfrm>
                  <a:off x="856080" y="4728960"/>
                  <a:ext cx="3633480" cy="91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Pacijent je samostalan po ravnom terenu pri hodu</a:t>
                  </a:r>
                  <a:r>
                    <a:rPr b="1" lang="en-US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, 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zahteva minimalnu pomoć kod savladjivanja stepenica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89" name="Rectangle 31"/>
                <p:cNvSpPr/>
                <p:nvPr/>
              </p:nvSpPr>
              <p:spPr>
                <a:xfrm>
                  <a:off x="767880" y="4728960"/>
                  <a:ext cx="381024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90" name="Group 32"/>
              <p:cNvGrpSpPr/>
              <p:nvPr/>
            </p:nvGrpSpPr>
            <p:grpSpPr>
              <a:xfrm>
                <a:off x="4578480" y="4728960"/>
                <a:ext cx="3261960" cy="914400"/>
                <a:chOff x="4578480" y="4728960"/>
                <a:chExt cx="3261960" cy="914400"/>
              </a:xfrm>
            </p:grpSpPr>
            <p:sp>
              <p:nvSpPr>
                <p:cNvPr id="191" name="Rectangle 33"/>
                <p:cNvSpPr/>
                <p:nvPr/>
              </p:nvSpPr>
              <p:spPr>
                <a:xfrm>
                  <a:off x="4666320" y="4728960"/>
                  <a:ext cx="3086280" cy="91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92" name="Rectangle 34"/>
                <p:cNvSpPr/>
                <p:nvPr/>
              </p:nvSpPr>
              <p:spPr>
                <a:xfrm>
                  <a:off x="4578480" y="4728960"/>
                  <a:ext cx="32619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93" name="Group 35"/>
              <p:cNvGrpSpPr/>
              <p:nvPr/>
            </p:nvGrpSpPr>
            <p:grpSpPr>
              <a:xfrm>
                <a:off x="767880" y="5643360"/>
                <a:ext cx="3810240" cy="609840"/>
                <a:chOff x="767880" y="5643360"/>
                <a:chExt cx="3810240" cy="609840"/>
              </a:xfrm>
            </p:grpSpPr>
            <p:sp>
              <p:nvSpPr>
                <p:cNvPr id="194" name="Rectangle 36"/>
                <p:cNvSpPr/>
                <p:nvPr/>
              </p:nvSpPr>
              <p:spPr>
                <a:xfrm>
                  <a:off x="856080" y="5643360"/>
                  <a:ext cx="363348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Samostalan u okviru svih zahteva ADŽ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95" name="Rectangle 37"/>
                <p:cNvSpPr/>
                <p:nvPr/>
              </p:nvSpPr>
              <p:spPr>
                <a:xfrm>
                  <a:off x="767880" y="5643360"/>
                  <a:ext cx="381024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96" name="Group 38"/>
              <p:cNvGrpSpPr/>
              <p:nvPr/>
            </p:nvGrpSpPr>
            <p:grpSpPr>
              <a:xfrm>
                <a:off x="4578480" y="5643360"/>
                <a:ext cx="3261960" cy="609840"/>
                <a:chOff x="4578480" y="5643360"/>
                <a:chExt cx="3261960" cy="609840"/>
              </a:xfrm>
            </p:grpSpPr>
            <p:sp>
              <p:nvSpPr>
                <p:cNvPr id="197" name="Rectangle 39"/>
                <p:cNvSpPr/>
                <p:nvPr/>
              </p:nvSpPr>
              <p:spPr>
                <a:xfrm>
                  <a:off x="4666320" y="5643360"/>
                  <a:ext cx="308628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98" name="Rectangle 40"/>
                <p:cNvSpPr/>
                <p:nvPr/>
              </p:nvSpPr>
              <p:spPr>
                <a:xfrm>
                  <a:off x="4578480" y="5643360"/>
                  <a:ext cx="326196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99" name="Rectangle 41"/>
            <p:cNvSpPr/>
            <p:nvPr/>
          </p:nvSpPr>
          <p:spPr>
            <a:xfrm>
              <a:off x="762120" y="1523880"/>
              <a:ext cx="7086240" cy="47340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685800" y="533520"/>
            <a:ext cx="7315200" cy="34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d Up &amp; Go Test (TUG tes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thias , Richardson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cijent ustaje sa jedne standardizovane stolice, hoda  tri metra i vraća se nazad seda na stolicu. Meri se vreme za koje pacijent potroši od istajanja do ponovnog sedanja na stolicu. Granična vrednost je 14 sekundi. </a:t>
            </a:r>
            <a:r>
              <a:rPr b="1" lang="sr-Latn-C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ijent</a:t>
            </a:r>
            <a:r>
              <a:rPr b="1" lang="sr-Latn-C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kome je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potrebno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še od 30 sekundi  zahteva pomoć u ADŽ. Kod osoba preko 65 godina kod ovog testa postoji opasnost od pada u toku izvodjenja ove motoričke aktivnosti. TUG test ima negativnu korelaciju sa brzinom hoda</a:t>
            </a:r>
            <a:r>
              <a:rPr b="1" lang="sr-Latn-C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 = - 0,61, Berg-balans-skala r = - 0,81, Barthel index r = - 0,78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01" name="Group 3"/>
          <p:cNvGrpSpPr/>
          <p:nvPr/>
        </p:nvGrpSpPr>
        <p:grpSpPr>
          <a:xfrm>
            <a:off x="838080" y="4648320"/>
            <a:ext cx="7238880" cy="1442880"/>
            <a:chOff x="838080" y="4648320"/>
            <a:chExt cx="7238880" cy="1442880"/>
          </a:xfrm>
        </p:grpSpPr>
        <p:grpSp>
          <p:nvGrpSpPr>
            <p:cNvPr id="202" name="Group 4"/>
            <p:cNvGrpSpPr/>
            <p:nvPr/>
          </p:nvGrpSpPr>
          <p:grpSpPr>
            <a:xfrm>
              <a:off x="844200" y="4653000"/>
              <a:ext cx="7225560" cy="1433520"/>
              <a:chOff x="844200" y="4653000"/>
              <a:chExt cx="7225560" cy="1433520"/>
            </a:xfrm>
          </p:grpSpPr>
          <p:grpSp>
            <p:nvGrpSpPr>
              <p:cNvPr id="203" name="Group 5"/>
              <p:cNvGrpSpPr/>
              <p:nvPr/>
            </p:nvGrpSpPr>
            <p:grpSpPr>
              <a:xfrm>
                <a:off x="844200" y="4653000"/>
                <a:ext cx="1271520" cy="793800"/>
                <a:chOff x="844200" y="4653000"/>
                <a:chExt cx="1271520" cy="793800"/>
              </a:xfrm>
            </p:grpSpPr>
            <p:sp>
              <p:nvSpPr>
                <p:cNvPr id="204" name="Rectangle 6"/>
                <p:cNvSpPr/>
                <p:nvPr/>
              </p:nvSpPr>
              <p:spPr>
                <a:xfrm>
                  <a:off x="937080" y="4653000"/>
                  <a:ext cx="1086120" cy="79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Latn-CS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datum prijema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05" name="Rectangle 7"/>
                <p:cNvSpPr/>
                <p:nvPr/>
              </p:nvSpPr>
              <p:spPr>
                <a:xfrm>
                  <a:off x="844200" y="4653000"/>
                  <a:ext cx="1271520" cy="79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06" name="Group 8"/>
              <p:cNvGrpSpPr/>
              <p:nvPr/>
            </p:nvGrpSpPr>
            <p:grpSpPr>
              <a:xfrm>
                <a:off x="2116080" y="4653000"/>
                <a:ext cx="1455480" cy="793800"/>
                <a:chOff x="2116080" y="4653000"/>
                <a:chExt cx="1455480" cy="793800"/>
              </a:xfrm>
            </p:grpSpPr>
            <p:sp>
              <p:nvSpPr>
                <p:cNvPr id="207" name="Rectangle 9"/>
                <p:cNvSpPr/>
                <p:nvPr/>
              </p:nvSpPr>
              <p:spPr>
                <a:xfrm>
                  <a:off x="2208960" y="4653000"/>
                  <a:ext cx="1269720" cy="79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Latn-CS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TUG kod prijema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08" name="Rectangle 10"/>
                <p:cNvSpPr/>
                <p:nvPr/>
              </p:nvSpPr>
              <p:spPr>
                <a:xfrm>
                  <a:off x="2116080" y="4653000"/>
                  <a:ext cx="1455480" cy="79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09" name="Group 11"/>
              <p:cNvGrpSpPr/>
              <p:nvPr/>
            </p:nvGrpSpPr>
            <p:grpSpPr>
              <a:xfrm>
                <a:off x="3572280" y="4653000"/>
                <a:ext cx="1455840" cy="793800"/>
                <a:chOff x="3572280" y="4653000"/>
                <a:chExt cx="1455840" cy="793800"/>
              </a:xfrm>
            </p:grpSpPr>
            <p:sp>
              <p:nvSpPr>
                <p:cNvPr id="210" name="Rectangle 12"/>
                <p:cNvSpPr/>
                <p:nvPr/>
              </p:nvSpPr>
              <p:spPr>
                <a:xfrm>
                  <a:off x="3665160" y="4653000"/>
                  <a:ext cx="1269720" cy="79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Latn-CS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TUG kod otpusta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11" name="Rectangle 13"/>
                <p:cNvSpPr/>
                <p:nvPr/>
              </p:nvSpPr>
              <p:spPr>
                <a:xfrm>
                  <a:off x="3572280" y="4653000"/>
                  <a:ext cx="1455840" cy="79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12" name="Group 14"/>
              <p:cNvGrpSpPr/>
              <p:nvPr/>
            </p:nvGrpSpPr>
            <p:grpSpPr>
              <a:xfrm>
                <a:off x="5028480" y="4653000"/>
                <a:ext cx="1325520" cy="793800"/>
                <a:chOff x="5028480" y="4653000"/>
                <a:chExt cx="1325520" cy="793800"/>
              </a:xfrm>
            </p:grpSpPr>
            <p:sp>
              <p:nvSpPr>
                <p:cNvPr id="213" name="Rectangle 15"/>
                <p:cNvSpPr/>
                <p:nvPr/>
              </p:nvSpPr>
              <p:spPr>
                <a:xfrm>
                  <a:off x="5121000" y="4653000"/>
                  <a:ext cx="1140480" cy="79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Latn-CS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datum otpusta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14" name="Rectangle 16"/>
                <p:cNvSpPr/>
                <p:nvPr/>
              </p:nvSpPr>
              <p:spPr>
                <a:xfrm>
                  <a:off x="5028480" y="4653000"/>
                  <a:ext cx="1325520" cy="79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15" name="Group 17"/>
              <p:cNvGrpSpPr/>
              <p:nvPr/>
            </p:nvGrpSpPr>
            <p:grpSpPr>
              <a:xfrm>
                <a:off x="6354720" y="4653000"/>
                <a:ext cx="1715040" cy="793800"/>
                <a:chOff x="6354720" y="4653000"/>
                <a:chExt cx="1715040" cy="793800"/>
              </a:xfrm>
            </p:grpSpPr>
            <p:sp>
              <p:nvSpPr>
                <p:cNvPr id="216" name="Rectangle 18"/>
                <p:cNvSpPr/>
                <p:nvPr/>
              </p:nvSpPr>
              <p:spPr>
                <a:xfrm>
                  <a:off x="6447600" y="4653000"/>
                  <a:ext cx="1528920" cy="79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Latn-CS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ukupan broj tretmana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17" name="Rectangle 19"/>
                <p:cNvSpPr/>
                <p:nvPr/>
              </p:nvSpPr>
              <p:spPr>
                <a:xfrm>
                  <a:off x="6354720" y="4653000"/>
                  <a:ext cx="1715040" cy="79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18" name="Group 20"/>
              <p:cNvGrpSpPr/>
              <p:nvPr/>
            </p:nvGrpSpPr>
            <p:grpSpPr>
              <a:xfrm>
                <a:off x="844200" y="5446800"/>
                <a:ext cx="1271520" cy="639720"/>
                <a:chOff x="844200" y="5446800"/>
                <a:chExt cx="1271520" cy="639720"/>
              </a:xfrm>
            </p:grpSpPr>
            <p:sp>
              <p:nvSpPr>
                <p:cNvPr id="219" name="Rectangle 21"/>
                <p:cNvSpPr/>
                <p:nvPr/>
              </p:nvSpPr>
              <p:spPr>
                <a:xfrm>
                  <a:off x="937080" y="5446800"/>
                  <a:ext cx="10861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20" name="Rectangle 22"/>
                <p:cNvSpPr/>
                <p:nvPr/>
              </p:nvSpPr>
              <p:spPr>
                <a:xfrm>
                  <a:off x="844200" y="5446800"/>
                  <a:ext cx="12715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21" name="Group 23"/>
              <p:cNvGrpSpPr/>
              <p:nvPr/>
            </p:nvGrpSpPr>
            <p:grpSpPr>
              <a:xfrm>
                <a:off x="2116080" y="5446800"/>
                <a:ext cx="1455480" cy="639720"/>
                <a:chOff x="2116080" y="5446800"/>
                <a:chExt cx="1455480" cy="639720"/>
              </a:xfrm>
            </p:grpSpPr>
            <p:sp>
              <p:nvSpPr>
                <p:cNvPr id="222" name="Rectangle 24"/>
                <p:cNvSpPr/>
                <p:nvPr/>
              </p:nvSpPr>
              <p:spPr>
                <a:xfrm>
                  <a:off x="2208960" y="5446800"/>
                  <a:ext cx="12697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23" name="Rectangle 25"/>
                <p:cNvSpPr/>
                <p:nvPr/>
              </p:nvSpPr>
              <p:spPr>
                <a:xfrm>
                  <a:off x="2116080" y="5446800"/>
                  <a:ext cx="14554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24" name="Group 26"/>
              <p:cNvGrpSpPr/>
              <p:nvPr/>
            </p:nvGrpSpPr>
            <p:grpSpPr>
              <a:xfrm>
                <a:off x="3572280" y="5446800"/>
                <a:ext cx="1455840" cy="639720"/>
                <a:chOff x="3572280" y="5446800"/>
                <a:chExt cx="1455840" cy="639720"/>
              </a:xfrm>
            </p:grpSpPr>
            <p:sp>
              <p:nvSpPr>
                <p:cNvPr id="225" name="Rectangle 27"/>
                <p:cNvSpPr/>
                <p:nvPr/>
              </p:nvSpPr>
              <p:spPr>
                <a:xfrm>
                  <a:off x="3665160" y="5446800"/>
                  <a:ext cx="12697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26" name="Rectangle 28"/>
                <p:cNvSpPr/>
                <p:nvPr/>
              </p:nvSpPr>
              <p:spPr>
                <a:xfrm>
                  <a:off x="3572280" y="5446800"/>
                  <a:ext cx="14558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27" name="Group 29"/>
              <p:cNvGrpSpPr/>
              <p:nvPr/>
            </p:nvGrpSpPr>
            <p:grpSpPr>
              <a:xfrm>
                <a:off x="5028480" y="5446800"/>
                <a:ext cx="1325520" cy="639720"/>
                <a:chOff x="5028480" y="5446800"/>
                <a:chExt cx="1325520" cy="639720"/>
              </a:xfrm>
            </p:grpSpPr>
            <p:sp>
              <p:nvSpPr>
                <p:cNvPr id="228" name="Rectangle 30"/>
                <p:cNvSpPr/>
                <p:nvPr/>
              </p:nvSpPr>
              <p:spPr>
                <a:xfrm>
                  <a:off x="5121000" y="5446800"/>
                  <a:ext cx="11404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29" name="Rectangle 31"/>
                <p:cNvSpPr/>
                <p:nvPr/>
              </p:nvSpPr>
              <p:spPr>
                <a:xfrm>
                  <a:off x="5028480" y="5446800"/>
                  <a:ext cx="13255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30" name="Group 32"/>
              <p:cNvGrpSpPr/>
              <p:nvPr/>
            </p:nvGrpSpPr>
            <p:grpSpPr>
              <a:xfrm>
                <a:off x="6354720" y="5446800"/>
                <a:ext cx="1715040" cy="639720"/>
                <a:chOff x="6354720" y="5446800"/>
                <a:chExt cx="1715040" cy="639720"/>
              </a:xfrm>
            </p:grpSpPr>
            <p:sp>
              <p:nvSpPr>
                <p:cNvPr id="231" name="Rectangle 33"/>
                <p:cNvSpPr/>
                <p:nvPr/>
              </p:nvSpPr>
              <p:spPr>
                <a:xfrm>
                  <a:off x="6447600" y="5446800"/>
                  <a:ext cx="15289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32" name="Rectangle 34"/>
                <p:cNvSpPr/>
                <p:nvPr/>
              </p:nvSpPr>
              <p:spPr>
                <a:xfrm>
                  <a:off x="6354720" y="5446800"/>
                  <a:ext cx="17150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33" name="Rectangle 35"/>
            <p:cNvSpPr/>
            <p:nvPr/>
          </p:nvSpPr>
          <p:spPr>
            <a:xfrm>
              <a:off x="838080" y="4648320"/>
              <a:ext cx="7238880" cy="14428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755640" y="1773000"/>
            <a:ext cx="7920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-360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10000"/>
              <a:buFont typeface="Wingdings" charset="2"/>
              <a:buChar char=""/>
              <a:tabLst>
                <a:tab algn="l" pos="108252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Najčešći uzrok nastanka hemiplegije je vaskularne prirod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(CVI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60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8252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- Thrombosis vasorum cerebri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16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8252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- Embolia vasorum cerebri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16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8252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- Haemorrhagia cerebri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60360" indent="-360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10000"/>
              <a:buFont typeface="Wingdings" charset="2"/>
              <a:buChar char=""/>
              <a:tabLst>
                <a:tab algn="l" pos="108252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Pored vaskularnih mogući uzroci su i tumori, traume, infekcije (apsces mozga.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60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8252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60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8252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1547640" y="765000"/>
            <a:ext cx="633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sr-Latn-CS" sz="3200" spc="-1" strike="noStrike">
                <a:solidFill>
                  <a:srgbClr val="ffffff"/>
                </a:solidFill>
                <a:latin typeface="Tahoma"/>
              </a:rPr>
              <a:t>Etiologija i patogeneza hemiplegij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87280" y="907560"/>
            <a:ext cx="725184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Patoanatomske promene kod CV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5280" y="1916280"/>
            <a:ext cx="4824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73160" indent="-17316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200" spc="-1" strike="noStrike">
                <a:solidFill>
                  <a:srgbClr val="ffffff"/>
                </a:solidFill>
                <a:latin typeface="Tahoma"/>
              </a:rPr>
              <a:t>Nekroza - </a:t>
            </a:r>
            <a:r>
              <a:rPr b="0" lang="sr-Latn-CS" sz="2200" spc="-1" strike="noStrike">
                <a:solidFill>
                  <a:srgbClr val="ffffff"/>
                </a:solidFill>
                <a:latin typeface="Tahoma"/>
              </a:rPr>
              <a:t>protok krvi je ispod 10 ml/100gr/min. Dolazi do smrti ćelija mozga usled nedostatka kiseonika, glikoze i glikogena. Promene u ovoj oblasti su ireverzibilne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1731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173160" indent="-17316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sr-Latn-CS" sz="2200" spc="-1" strike="noStrike">
                <a:solidFill>
                  <a:srgbClr val="ffffff"/>
                </a:solidFill>
                <a:latin typeface="Tahoma"/>
              </a:rPr>
              <a:t>Penumbra -</a:t>
            </a:r>
            <a:r>
              <a:rPr b="0" lang="sr-Latn-CS" sz="2200" spc="-1" strike="noStrike">
                <a:solidFill>
                  <a:srgbClr val="ffffff"/>
                </a:solidFill>
                <a:latin typeface="Tahoma"/>
              </a:rPr>
              <a:t> ishemična zona  protok krvi je 10-20 ml/100gr/min, ćelije su još uvek žive, ali su izgubile funkciju. Promene u ovoj zoni su reverzibilne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1731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173160" indent="-17316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200" spc="-1" strike="noStrike">
                <a:solidFill>
                  <a:srgbClr val="ffffff"/>
                </a:solidFill>
                <a:latin typeface="Tahoma"/>
              </a:rPr>
              <a:t>Edem</a:t>
            </a:r>
            <a:r>
              <a:rPr b="1" lang="sr-Latn-CS" sz="2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sr-Latn-CS" sz="2200" spc="-1" strike="noStrike">
                <a:solidFill>
                  <a:srgbClr val="ffffff"/>
                </a:solidFill>
                <a:latin typeface="Tahoma"/>
              </a:rPr>
              <a:t>mozga - široka zona u kojoj je protok krvi 20ml/100gr/min, ali je funkcija transmisije narušena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4" descr="Clip"/>
          <p:cNvPicPr/>
          <p:nvPr/>
        </p:nvPicPr>
        <p:blipFill>
          <a:blip r:embed="rId1"/>
          <a:stretch/>
        </p:blipFill>
        <p:spPr>
          <a:xfrm>
            <a:off x="5429160" y="1844640"/>
            <a:ext cx="3463920" cy="4584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CVI prema dužini manifestacij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Subkliničke ishemije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– nalaz samo na CT-u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TIA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– prolazni neurološki deficit u trajanju od nekoliko sekundi ili minuta, a maksimalno do 24 sa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RIND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– reverzibilni ishemijski neurološki deficit. Fokalni deficit koji traje manje od 24 sa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PIND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– progresivni ishemijski neurološki deficit Neurološki simptomi se razvijaju prvih 48 sati. Pogoršanja idu skokovi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Kompletan udar (CVI)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– definitivno cerebralno oštećenj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Plastičnost mozg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Sposobnost  moždanih struktura da menjaju funkcionalnu organizaciju-jedan deo može preuzeti funkciju drugog de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- grananje akso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- denervacijska hipersenzitivn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- izopotencijaln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- supstituc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- kompezac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15640" y="54936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76000" y="1915920"/>
            <a:ext cx="7272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346680">
              <a:lnSpc>
                <a:spcPct val="80000"/>
              </a:lnSpc>
              <a:spcBef>
                <a:spcPts val="550"/>
              </a:spcBef>
              <a:buClr>
                <a:srgbClr val="cb35a0"/>
              </a:buClr>
              <a:buSzPct val="120000"/>
              <a:buFont typeface="Tahoma"/>
              <a:buAutoNum type="romanUcPeriod"/>
              <a:tabLst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Latn-CS" sz="2200" spc="-1" strike="noStrike">
                <a:solidFill>
                  <a:srgbClr val="ffffff"/>
                </a:solidFill>
                <a:latin typeface="Tahoma"/>
              </a:rPr>
              <a:t>Prirodni faktori rizika: </a:t>
            </a:r>
            <a:r>
              <a:rPr b="0" lang="sr-Latn-CS" sz="2200" spc="-1" strike="noStrike">
                <a:solidFill>
                  <a:srgbClr val="ffffff"/>
                </a:solidFill>
                <a:latin typeface="Tahoma"/>
              </a:rPr>
              <a:t>životno doba, pol, geografsko-klimatski</a:t>
            </a:r>
            <a:r>
              <a:rPr b="1" lang="sr-Latn-C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200" spc="-1" strike="noStrike">
                <a:solidFill>
                  <a:srgbClr val="ffffff"/>
                </a:solidFill>
                <a:latin typeface="Tahoma"/>
              </a:rPr>
              <a:t>faktori</a:t>
            </a:r>
            <a:r>
              <a:rPr b="1" lang="sr-Latn-CS" sz="2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346680">
              <a:lnSpc>
                <a:spcPct val="80000"/>
              </a:lnSpc>
              <a:spcBef>
                <a:spcPts val="550"/>
              </a:spcBef>
              <a:buClr>
                <a:srgbClr val="cb35a0"/>
              </a:buClr>
              <a:buSzPct val="120000"/>
              <a:buFont typeface="Tahoma"/>
              <a:buAutoNum type="romanUcPeriod" startAt="2"/>
              <a:tabLst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ffffff"/>
                </a:solidFill>
                <a:latin typeface="Tahoma"/>
              </a:rPr>
              <a:t>  „</a:t>
            </a:r>
            <a:r>
              <a:rPr b="1" lang="sr-Latn-CS" sz="2200" spc="-1" strike="noStrike">
                <a:solidFill>
                  <a:srgbClr val="ffffff"/>
                </a:solidFill>
                <a:latin typeface="Tahoma"/>
              </a:rPr>
              <a:t>Riziko oboljenja“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1025640" indent="-25632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0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ffffff"/>
                </a:solidFill>
                <a:latin typeface="Tahoma"/>
              </a:rPr>
              <a:t>arterijska hipertenzija,</a:t>
            </a:r>
            <a:r>
              <a:rPr b="0" lang="sr-Latn-CS" sz="2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1025640" indent="-25632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0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ffffff"/>
                </a:solidFill>
                <a:latin typeface="Tahoma"/>
              </a:rPr>
              <a:t>diabetes mellitus,</a:t>
            </a:r>
            <a:r>
              <a:rPr b="0" lang="sr-Latn-CS" sz="2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1025640" indent="-25632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0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ffffff"/>
                </a:solidFill>
                <a:latin typeface="Tahoma"/>
              </a:rPr>
              <a:t>oboljenja srca,</a:t>
            </a:r>
            <a:r>
              <a:rPr b="0" lang="sr-Latn-CS" sz="2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1025640" indent="-25632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0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ffffff"/>
                </a:solidFill>
                <a:latin typeface="Tahoma"/>
              </a:rPr>
              <a:t>hiperlipidemija, hiperholesterolemija,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1025640" indent="-25632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0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ffffff"/>
                </a:solidFill>
                <a:latin typeface="Tahoma"/>
              </a:rPr>
              <a:t>arterioskleroza i</a:t>
            </a:r>
            <a:r>
              <a:rPr b="0" lang="sr-Latn-CS" sz="2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1025640" indent="-25632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0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ffffff"/>
                </a:solidFill>
                <a:latin typeface="Tahoma"/>
              </a:rPr>
              <a:t>ateromatoza</a:t>
            </a:r>
            <a:r>
              <a:rPr b="0" lang="sr-Latn-CS" sz="2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346680">
              <a:lnSpc>
                <a:spcPct val="80000"/>
              </a:lnSpc>
              <a:spcBef>
                <a:spcPts val="550"/>
              </a:spcBef>
              <a:buClr>
                <a:srgbClr val="cb35a0"/>
              </a:buClr>
              <a:buSzPct val="120000"/>
              <a:buFont typeface="Tahoma"/>
              <a:buAutoNum type="romanUcPeriod" startAt="3"/>
              <a:tabLst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sr-Latn-CS" sz="2200" spc="-1" strike="noStrike">
                <a:solidFill>
                  <a:srgbClr val="ffffff"/>
                </a:solidFill>
                <a:latin typeface="Tahoma"/>
              </a:rPr>
              <a:t>Rđave navike:</a:t>
            </a:r>
            <a:r>
              <a:rPr b="0" lang="sr-Latn-CS" sz="2200" spc="-1" strike="noStrike">
                <a:solidFill>
                  <a:srgbClr val="ffffff"/>
                </a:solidFill>
                <a:latin typeface="Tahoma"/>
              </a:rPr>
              <a:t> pušenje, konzumiranje alkohola, gojaznost, fizička i mentalna neaktivnost, stres                                                                         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1204200" y="1052640"/>
            <a:ext cx="78526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ahoma"/>
              </a:rPr>
              <a:t>Faktori rizika za nastanak apopleksi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Klinička slika hemiplegičar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Poremećaj motorik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Poremećaj senzibilite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Poremećaj percepci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Poremećaj govora (desni) i ponašanja (levi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Aleksije, agrafi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Agnozije, apraksije, akalkulije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6T08:24:43Z</dcterms:created>
  <dc:creator>Jovan</dc:creator>
  <dc:description/>
  <dc:language>en-US</dc:language>
  <cp:lastModifiedBy>Info</cp:lastModifiedBy>
  <dcterms:modified xsi:type="dcterms:W3CDTF">2010-03-07T19:59:00Z</dcterms:modified>
  <cp:revision>18</cp:revision>
  <dc:subject/>
  <dc:title>MEDICINSKI FAKULTET KRAGUJEVAC Smer: Diplomirani viši medicinski tehničar Usmerenje: Fizioterapeutsko     DIPLOMSKI RAD </dc:title>
</cp:coreProperties>
</file>